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D615-E05F-46BA-9F27-AC39D33E4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61E3-BDE2-4452-BE2D-DA258553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B6D6-5EBE-46F6-B324-23B2707FD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F869-3E22-4AE3-8A10-8967D88BA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371F-A491-4F80-B494-C42749A2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B25C-4217-4FAA-8AC6-833BE7F2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3DFD-B692-4B3B-9B31-9B28D04D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A7AC-A592-4EB4-ACB0-55AE37EF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85C2-F904-44AE-BFAF-1FC615C9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CB85-1F23-4A1E-961E-52639599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9509-4F35-4631-8FE7-332CB2BE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0BBF-11DA-4BC0-A026-E0068351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7CEC-2788-4FEF-81BE-D78F6A273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3:31:27Z</dcterms:created>
  <dc:creator>INVES-S6600A</dc:creator>
  <dc:description/>
  <dc:language>en-US</dc:language>
  <cp:lastModifiedBy>INVES-S6600A</cp:lastModifiedBy>
  <dcterms:modified xsi:type="dcterms:W3CDTF">2010-11-23T13:31:43Z</dcterms:modified>
  <cp:revision>1</cp:revision>
  <dc:subject/>
  <dc:title>Diapositiva 1</dc:title>
</cp:coreProperties>
</file>